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ct" ContentType="image/x-pict"/>
  <Override PartName="/ppt/media/image4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88B6-8754-4F1A-8D98-0402C10C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5AA9-B5FA-45A0-9E58-B6CC3BFD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2416-D185-46A4-8C0A-1FB9F231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C706-66CC-432D-9892-55EBF0BA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9FA3-3BA0-4E8C-BD04-6FAB0B0B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1009-81E1-4F5D-9C4A-97A8C3EA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212A-A1EB-4933-9389-66AC867A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76EA-FCBC-45E8-ACC7-3DCCDFCC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D247-EF0D-4743-B865-0E60AD2F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F19A-1064-49A4-997E-4CC8AC05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94D7-EC65-4427-9718-4BD840CB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5C3-EAE9-4A07-B067-AE3786BC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47C5-95E7-4731-B17C-C9224883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C310-7260-4947-B224-94E72113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A172-AEC3-49B9-A2E6-FD9D527C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5859-717A-4B06-96AC-54CE24BF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E64F-8F9E-438C-862C-EDC782EB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9CC9-30FF-41B9-97ED-579C5AD7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E70D-6A83-4F2B-A9DE-A9DCF632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76FB-28B5-48E9-A4CC-16EF000C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158-32F6-45CD-8BCD-F4EDD8E3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C83D-441E-49FF-89A9-4F84B2C5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2D27-8B3E-4147-A8A3-B9EA7805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A8D-97B2-4D68-87B8-A672A436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37E1-99B8-448B-B02B-5D230ED8D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9810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0BFD-AFEB-4D13-B5AC-5F9B87E301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2720" y="1980720"/>
            <a:ext cx="42912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3bdbd"/>
                </a:solidFill>
                <a:latin typeface="Arial"/>
              </a:rPr>
              <a:t>First things to do</a:t>
            </a:r>
            <a:endParaRPr b="0" lang="en-US" sz="40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8080" y="3048120"/>
            <a:ext cx="6553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17528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e9090"/>
                </a:solidFill>
                <a:latin typeface="Arial"/>
              </a:rPr>
              <a:t>Decide To Act</a:t>
            </a:r>
            <a:endParaRPr b="0" lang="en-US" sz="38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3bd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bdbd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d3bdbd"/>
                </a:solidFill>
                <a:latin typeface="Arial"/>
              </a:rPr>
              <a:t>Don’t be afraid to help emergency victims for fear of trying and failing or being sued by the victims fami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3bd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bdbd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d3bdbd"/>
                </a:solidFill>
                <a:latin typeface="Arial"/>
              </a:rPr>
              <a:t>The Good Samaritan Law says that anyone who tries to help in an emergency situation cannot be sued unless he or she knowingly acted unsafel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3bd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bdbd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d3bdbd"/>
                </a:solidFill>
                <a:latin typeface="Arial"/>
              </a:rPr>
              <a:t>Be smart in deciding how to help the person. Do not endanger more people than the person who is already in dang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581280" y="4183200"/>
            <a:ext cx="36576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ll for help!!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the police department, the fire department, or Emergency Medical Services (EMS). EMS can be summoned by dialing either 911, 0 or a direct numb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emergency operator with all the necessary information, such as street address, nature of the emergency, and your n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114800" y="4267080"/>
            <a:ext cx="87624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3bdbd"/>
                </a:solidFill>
                <a:latin typeface="Arial"/>
              </a:rPr>
              <a:t>Provide Care Until Help arrives </a:t>
            </a:r>
            <a:endParaRPr b="0" lang="en-US" sz="36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the person only if he or she is not safe. If there is danger of traffic or an explosion, you can move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should not move them if they have a broken bone, or there is damage to the head, neck, or sp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the victim gently, supporting the spine to minimize mov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343400" y="3962520"/>
            <a:ext cx="2309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3bdbd"/>
                </a:solidFill>
                <a:latin typeface="Arial"/>
              </a:rPr>
              <a:t>When Rescue Breathing Is Needed</a:t>
            </a:r>
            <a:endParaRPr b="0" lang="en-US" sz="36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victim has stopped breathing but has a pulse, you can use rescue breath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cue Breath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is a substitute for normal breathing in which someone forces air into the victims lu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38080" y="60958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8:38Z</dcterms:created>
  <dc:creator>Kraybill Campus LMS</dc:creator>
  <dc:description/>
  <dc:language>en-US</dc:language>
  <cp:lastModifiedBy>Kraybill Campus LMS</cp:lastModifiedBy>
  <dcterms:modified xsi:type="dcterms:W3CDTF">2011-05-26T16:08:44Z</dcterms:modified>
  <cp:revision>6</cp:revision>
  <dc:subject/>
  <dc:title>First things to do</dc:title>
</cp:coreProperties>
</file>